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C39-3B77-4C89-85BB-A78A07B6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832-FA27-4CF3-B9F5-81A3D535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DF1-1A75-4273-B1E8-B534E43B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B99-FD67-4D8B-B483-40FEDE0D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187F-4AD9-4A5D-B50C-6EC354E4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6AC2-F46E-4850-B4F0-5E6E0871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1CB0-1CC6-4077-A916-2A65E3F4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A932-4131-4C99-8E62-020D64C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9535-17F0-4C5B-96D9-69E35D2D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310E-FF51-41AC-848F-019E4AD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B903-6F7F-4793-A921-E186FF1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05A-2682-4A7E-89E0-02AC0160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FC11-0EBE-4242-9C5B-A406D66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88C5-8173-4636-A611-78B5C21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7EE3-7D3F-42B2-A398-6B4ACBF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99AE-3B37-4B2A-8C80-E849B143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049E-79E5-4832-B414-A2594069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EC0-237F-4617-B05E-203DB5B1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AF0-EEDF-4FB5-A1A7-F70322A8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E33-B1B7-4AD8-86ED-C171DD74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B8B-B1A6-448D-B8AE-FA3D4EC0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015-81C3-4AFD-B0B5-798FF12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E9D-7FA6-42F1-B0B2-5238F4E1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1F0-0DA2-4EE3-A412-D300D98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6C4C-6FDB-4B28-9F39-2BF76BCD24C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23B6-7DF4-437F-AE4A-FAEA95711E6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Framing a Research Ques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research question should be 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 </a:t>
            </a:r>
            <a:r>
              <a:rPr b="0" lang="en-US" sz="6000" spc="-1" strike="noStrike" u="sng">
                <a:solidFill>
                  <a:srgbClr val="999900"/>
                </a:solidFill>
                <a:uFillTx/>
                <a:latin typeface="Arial"/>
              </a:rPr>
              <a:t>M </a:t>
            </a:r>
            <a:r>
              <a:rPr b="0" lang="en-US" sz="6000" spc="-1" strike="noStrike" u="sng">
                <a:solidFill>
                  <a:srgbClr val="00b0f0"/>
                </a:solidFill>
                <a:uFillTx/>
                <a:latin typeface="Arial"/>
              </a:rPr>
              <a:t>A </a:t>
            </a:r>
            <a:r>
              <a:rPr b="0" lang="en-US" sz="6000" spc="-1" strike="noStrike" u="sng">
                <a:solidFill>
                  <a:srgbClr val="facad1"/>
                </a:solidFill>
                <a:uFillTx/>
                <a:latin typeface="Arial"/>
              </a:rPr>
              <a:t>R </a:t>
            </a:r>
            <a:r>
              <a:rPr b="0" lang="en-US" sz="6000" spc="-1" strike="noStrike" u="sng">
                <a:solidFill>
                  <a:srgbClr val="850aff"/>
                </a:solidFill>
                <a:uFillTx/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9900"/>
                </a:solidFill>
                <a:latin typeface="Arial"/>
              </a:rPr>
              <a:t>Meas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Arial"/>
              </a:rPr>
              <a:t>Applic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cad1"/>
                </a:solidFill>
                <a:latin typeface="Arial"/>
              </a:rPr>
              <a:t>Rea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0aff"/>
                </a:solidFill>
                <a:latin typeface="Arial"/>
              </a:rPr>
              <a:t>Time-rel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aming a research qu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e your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ff0066"/>
                </a:solidFill>
                <a:latin typeface="Arial"/>
              </a:rPr>
              <a:t>From research question to hypoth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er may formulate an hypothesis as answer to his/her research ques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pothesis should b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ad5cff"/>
                </a:solidFill>
                <a:latin typeface="Arial"/>
              </a:rPr>
              <a:t>a) reason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cad1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acad1"/>
                </a:solidFill>
                <a:latin typeface="Arial"/>
              </a:rPr>
              <a:t>b) prob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) research question foc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nk how to frame a research qu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ork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answer to the questions/statement in the steps 1,2 and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 question on page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ssessment sheet on page 11  to assess your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785880" y="4202280"/>
            <a:ext cx="4967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a research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Diagram 6" descr=""/>
          <p:cNvPicPr/>
          <p:nvPr/>
        </p:nvPicPr>
        <p:blipFill>
          <a:blip r:embed="rId1"/>
          <a:stretch/>
        </p:blipFill>
        <p:spPr>
          <a:xfrm>
            <a:off x="706320" y="3206880"/>
            <a:ext cx="801684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did we learn till no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 research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 research, evaluate sources and use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 use other people’s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e of ethics i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ff"/>
                </a:solidFill>
                <a:latin typeface="Arial"/>
              </a:rPr>
              <a:t>Definition of research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Definition of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ff"/>
                </a:solidFill>
                <a:latin typeface="Arial"/>
              </a:rPr>
              <a:t>Definition of research hypo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Importance of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99"/>
                </a:solidFill>
                <a:latin typeface="Arial"/>
              </a:rPr>
              <a:t>From topic to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99"/>
                </a:solidFill>
                <a:latin typeface="Arial"/>
              </a:rPr>
              <a:t>Good vs. bad research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From research question to hypo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ccff"/>
                </a:solidFill>
                <a:latin typeface="Arial"/>
              </a:rPr>
              <a:t>What is a research topic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ce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e want to find out, discover have more information about…. But to search abou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mething </a:t>
            </a:r>
            <a:r>
              <a:rPr b="0" lang="en-US" sz="3000" spc="-1" strike="noStrike">
                <a:solidFill>
                  <a:srgbClr val="0b1b0e"/>
                </a:solidFill>
                <a:latin typeface="Arial"/>
              </a:rPr>
              <a:t>is too broad so we need to narrow our field of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66ff"/>
                </a:solidFill>
                <a:latin typeface="Arial"/>
              </a:rPr>
              <a:t>What is a research quest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sentence that specifies criteria for the re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it is speci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it has a clear 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3000" spc="-1" strike="noStrike">
                <a:solidFill>
                  <a:srgbClr val="ff9933"/>
                </a:solidFill>
                <a:latin typeface="Arial"/>
              </a:rPr>
              <a:t>it tells you what data you need to f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it can also tell you how to collect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it can be broken down in many narrow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ff"/>
                </a:solidFill>
                <a:latin typeface="Arial"/>
              </a:rPr>
              <a:t>What is a research hypothes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prediction of research f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the predicted answer to the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the explanation of the research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describes the expectations of the research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doesn’t mean that the research is biased, on contrary the researcher should be able to declare that his/her hypothesis was wrong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66"/>
                </a:solidFill>
                <a:latin typeface="Arial"/>
              </a:rPr>
              <a:t>Why the research question is important or not importa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Stay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vestigate the topic in deep to gain reliable, measurable and vali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cide the best data coll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Not get lost in a broad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6b75"/>
                </a:solidFill>
                <a:latin typeface="Arial"/>
              </a:rPr>
              <a:t>Not being super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n’t choose a specific question-related data coll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e what you want to find 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in pair to answer the 3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99"/>
                </a:solidFill>
                <a:latin typeface="Arial"/>
              </a:rPr>
              <a:t>Good vs. bad research ques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it matter to me personal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clearly word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it be answer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clear how this question could be investiga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manage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t framed 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4:41Z</dcterms:modified>
  <cp:revision>34</cp:revision>
  <dc:subject/>
  <dc:title>Course: Fundamentals of Research</dc:title>
</cp:coreProperties>
</file>